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217-EF8C-43B9-8074-4860EFBD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A30-4E4F-4B4B-984A-FF65D9A7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F1B-73F5-4E54-8748-477EF255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13A-9B38-4F7C-B5A5-EBC0322E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90D-8458-4055-B4A9-3C63D47C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AA4-2B21-4237-ABD9-F3275743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13F-84A0-4E08-9A07-B91A8EEC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640-EB85-4D38-9DAF-0699F896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D78-A627-4CFF-AEA9-B5085396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175-6535-4AB3-BF22-72F30189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876-89A5-4C70-84FB-9037CE0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1F9-9660-4614-980A-A3E4B2C3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6E55-6A4B-4E6D-886C-A58C64F2C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Elephant"/>
              </a:rPr>
              <a:t>Planets in our Solar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60199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</a:rPr>
              <a:t>By: Dominique Pulver, Molly O’Brien, and Jai An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What is a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Planet ha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to have a Density over 1.000 not including the planet Sa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to have more than one 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to have Gravity- Planets can either have a high amount of Gravity or a low amount of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to be some kind of spherical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to have some amount of mass- Inner planets mass can be high for example Jupiter is over 300.0000 or low mass for example Mercury is over 0.0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planets must of Orbital Inclination except for Earth- Eris has the highest Orbital Inclination which is about 4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lanet has to be a certain distance from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planet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What is a Dwarf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 Dwarf Planet has to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o orbit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orbital Inclination has to be above 0.000, not including Ear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o have a mass above 0.0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o have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o have at least 1 moon, not including Mercury and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planet 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What isn’t a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 non-Planet ha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Density above 6.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Orbital Inclination above 4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Gravity above 3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over 65 mo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non-spherical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3"/>
          <p:cNvGraphicFramePr/>
          <p:nvPr/>
        </p:nvGraphicFramePr>
        <p:xfrm>
          <a:off x="0" y="0"/>
          <a:ext cx="9144000" cy="68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6:35:06Z</dcterms:created>
  <dc:creator>mchamorro</dc:creator>
  <dc:description/>
  <dc:language>en-US</dc:language>
  <cp:lastModifiedBy>ASD</cp:lastModifiedBy>
  <dcterms:modified xsi:type="dcterms:W3CDTF">2011-02-14T16:47:37Z</dcterms:modified>
  <cp:revision>13</cp:revision>
  <dc:subject/>
  <dc:title>What is a Planet?</dc:title>
</cp:coreProperties>
</file>